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1BA-D11A-4A6E-B1EF-F7FD7AFD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EB2-B896-4A85-BD77-2207780C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55F2C-DB53-4B5F-B236-4D5F657A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2DAC6-58FF-4F09-94E8-C52BACF9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88111-281E-4B45-A08C-7F00C0E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A8957-CA99-4FBA-AAB3-CA000A13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8A95F-D6F2-407D-8F02-805F1A3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CEEC-8685-4C6A-BE9E-E2CBB2A4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2CE98-577D-4852-AE67-67469BE1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3312B-4F34-4537-AF86-B102B38C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F0C35-2F6A-452F-8095-786BE759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5F2F9-54BA-445E-92FE-86B0801F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D2F-5C79-4B77-BBF4-A2F25DC4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5F7DC-AB69-4876-AC9D-9FA27FF0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665C2-A1BB-4CA5-80F6-3F454D39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D5CEE-7929-44A8-A080-D71DE0AC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8E885-B3C6-4CB4-821B-DA63A917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1A50A-6531-4AA3-B46F-154A1899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ED23F-155B-46DD-8331-47FC8FF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F69A1-80BC-492D-924B-B0DE2551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84665-5D8F-4D5F-8E7A-4880766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C3FD1-C505-479A-9289-4B91231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05646-7A74-49ED-9444-45809461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5C6-1C1E-4B4F-B6B2-B4779BE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94BCE-1B32-4660-966C-4916A2E8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F511C-789B-417A-B3FD-69DB9242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3A557-FA2A-4560-9BA4-69E67015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4C9FE-52B5-41F3-8F96-99A7FBC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8656E-5E25-42E7-BD3C-E74E6BD9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AAA53-C8D1-463F-A269-4A54EF19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ED554-DF9A-43D4-80F0-12AD69DD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7773D-8A5A-460E-A5A5-46E624C7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1A261-E708-4A90-8FCD-1FA46501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55385-178C-4536-8746-CFD7B04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2302-D586-472D-8E5E-9F2F4446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E3B79-03B0-482B-BB19-0FEBECBD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0B8C-9D78-4DDC-BB40-833A2BFA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D3F19-0260-4AE0-A885-9F8689DE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EA9B1-2DCF-497A-927A-254C52BC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401B4-D85E-4BA9-8776-403D0C6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F544E-4C82-4DFE-96B7-8B7F5304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9BE00-454D-472C-9B74-0E2BB982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A5D93-9479-4090-AB01-7241024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6BE59-7A3C-492D-874C-D6A93826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4C727-1D10-4DAC-8C31-96C25FA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F5C5-5B00-4B8E-8C35-E071FA3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39D0E-21A4-4D34-AD65-AB6445D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B6AA4-1607-42B5-9C42-ACED78BD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609F0-2293-40BA-B270-0688D2F6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0F0D1-18D6-4368-BC70-03104C74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1EE79-81ED-4375-AAFF-2AEE7633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E50BB-59B0-422D-8CB7-4F0C9D21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50B07-8583-40DA-91D0-9A0C6CE1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08B3D-B7C1-4775-A192-A901C89E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BA7CC-29B1-49E3-AF66-4179D95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15AAD-7776-4C78-B196-D979C7A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F3E5-6997-4F29-A0F4-AB419CA0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30481-1FA1-4612-8D71-D0DD8577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80687-B137-47CA-B4D6-603AB2B4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85CCB-7B72-4906-A899-8EF2D07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95B72-863B-4E81-B99C-4DB7DD9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41A8D-1427-47A1-8D75-F309BE16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9993F-B695-4CCA-B80D-1DA83F03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6DB57-F2C4-472F-AB5C-7D1E195E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42BCE-1AED-4F44-985E-CBA74F37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50601-37B4-43D2-9CF1-3D026A63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597FB-AA18-4FB4-9EC3-F69B5C4F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A2D6-1D7A-4990-922C-94EF9029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991E3-16CC-4B83-985B-8C42E69B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BCBAC-10B8-444C-B30A-DD58870B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8A336-0794-4228-83F4-3A1CBEC0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EAA74-359C-4E9B-A979-1CDDEBB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151FD-661C-47A9-A8D3-158E769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81089-3685-4A98-A53E-73529D3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EAD2E-1ED6-4BE0-A125-502635F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7F921-442C-4C10-8B2F-659B028B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8972A-517A-4634-B13B-5334DBF5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655C9-253E-4DF3-B33D-1F330B86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0CAD-6E75-4B7D-AC52-46BC216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62094-1A56-4AD0-95F4-3E487513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37B62-9ED5-420E-8AD8-E4D1F157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7E376-7B4A-448F-B797-989A5553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026A0-1B76-478A-906C-80057B85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1B217-4BF8-4DD1-A12E-F8DBE8B1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B9616-7BFD-4B7E-89AE-095A5AE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2E61E-BE13-45E2-8162-78B0893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D987B-1D41-4BA8-8F9C-2FDCFBB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7EBDF-3ABF-41A3-87FF-BF48604F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A5D02-77DB-4F75-8904-BFC42E12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BAE1-F018-4A2A-8243-D7B4AEF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F8D26-22E1-46B5-A2FE-7CA0C95C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9B40C-D394-48C2-8BE2-BA36D90C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E0C6A-D3FA-46F2-9D9A-59A90F5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6F060-E024-44CA-A484-448A686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E20C5-897E-44C9-ADB6-009CAD19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BBD17-E6B4-4CCF-8707-40011A24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5D411-B1F6-4A3D-9D9D-7636F77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C37BA-439B-4EF8-8497-8A5E355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AB13B-A4C0-40B0-B59F-AB8504C8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6CC99-1544-44F1-8A73-994A4FDB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D164-8090-405F-B1A5-B0D1C52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6DBA9-1CC2-4F09-BF7A-84C7A46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0EFEF-9CA6-47C2-A982-FD44275B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389A9-68CC-4352-ACD7-EABF3CF0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2942B-90C3-4FC1-8528-E411C22B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851C4-2943-4952-8DA5-9C2F37E4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C35C5-9DDE-4A66-87BC-981F7650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7407F-385A-448D-BBA5-E3DEE5FC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D2127-33D7-4354-BC2B-268E9AC1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AD8AC-2787-4888-8258-A12AAB9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FEDBD-8273-49B5-8527-75EBC5C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958-DFC2-47C2-8C7D-8D982F1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93F2-EDC3-4D5A-92E8-B5237AAD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CE33A-6D5D-49BD-AA4F-418D245F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8F780-A496-4F81-98FE-B07F955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6735D-C991-479F-8C90-B509F5B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58830-AAF4-43A5-9AFC-0E88E48D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086DB-53BE-43D2-9685-E4ABA2F0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D335-032E-47F9-8E41-8C765E1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453-2C9D-4BD4-90CD-E1BCABFF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5F46-BA64-4632-82F2-40F20A91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2694-4441-49E0-86DD-2ACF2A04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724E-E6C6-4749-8166-C2710171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E5C5-D49F-4678-8767-7E299ED7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A9D1-00AB-4F21-9B6D-A2AA2F74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EB00-E1EE-483C-8E2F-53FFF414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0346-0D30-44BE-AC8C-E735556A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A70-9495-49E7-BE55-6EBB6C67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E6C2-34CA-4258-A6CC-A939277F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5649-53E0-44E3-B146-319D2F3E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2707-B6FA-40F7-A778-B211B039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C902-72C7-40C6-853D-8650F6C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4D0E-B1A2-4181-AA1D-51855DD5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C670-CDE5-423C-BC46-6A3CAEE6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1179-17B1-4783-9FBF-FDAE43FD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4A4B-1F0F-4D3B-9305-91DFD64A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FC9B-D0E7-42A8-82C7-3C06CABD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27AD-9EC3-4CFB-8A2B-E4AE445B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276-8561-4B23-A288-41A4CBB0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DB30F-BB48-48D2-8690-3AF6B5A2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6AEC-4C27-426A-B0A1-51197690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4D81-1DA0-4605-917C-E7458A5D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B8C4-7AAE-4414-A294-8925374B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1469-25E3-44C7-841C-B43AD097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C5A4-3B46-4506-91C5-A40F733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BF1C-DB5B-4BE5-8C98-B863D1A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888F-C115-441F-A956-B87BB833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F2E3-DD4F-4B8B-AF29-3BCA90FE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FDF4-4E78-4C27-B628-7DD2CD4D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244-91D2-4D7F-B5E3-D8753FB4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7E6F0-59D7-44F7-9756-C721D230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0583-91E8-467E-8E2D-F401BF5B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F434-D75C-4F21-A8C7-A1FBC939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1DA1-A179-414E-B69F-C32E25BF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4C8DF-3E8E-4724-8A4C-07EC85C7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2A51-DAB9-4716-9175-6A20430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35CB-4332-4CBC-81FD-B167DB77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0CF12-9FAF-4813-8226-C79C495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AC06-BE0B-443E-89C9-9779F0C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6E906-DE5C-4D34-AF3A-FB6D1181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9EF-69A3-4DE3-92B0-D39D15EE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E095-0BE3-4E20-ADBB-20CEB231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4203-E66D-4E99-9CB9-D94EB95B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9673-8A8D-449F-9D38-0614A1B5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4FFC-AC6F-40B6-9317-7F4666B0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86ED-C1DF-4B1F-8CE2-10006F04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6234D-0178-4DC3-BF67-BA354FAC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4D88-3E4A-4F80-BA04-528332BB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3F5D8-8357-4E1E-8041-239BD02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D7906-B7C9-4497-96CB-B1FAB30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6DE08-ECAD-48C3-9BAD-404325E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57E-094B-4BD7-924C-23581D6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D833-6C14-48F7-AF83-C21DF12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DD9D7-9310-4EE1-8EE7-675FA8E0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089C0-4552-429F-8C64-F9C211C9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E91D-BB75-4444-B581-44282369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23D73-6DB2-4FC2-B10F-041DDC8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7757-9E7C-4353-87C4-6BB85936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21FF2-0BB0-4022-9D7A-41B18537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F047-A1A4-43F0-BD30-3803FDBF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E165F-AB60-48E1-AAD3-33AD087B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2713-9F9A-4E70-A6C0-B595D9B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EDF-CB57-4018-A22A-A5EB852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5959-EC01-4600-B4C7-A7D0529D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FDB1-367B-4ABC-B731-B3CD442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841D-8CF8-4188-991E-404B575E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82AD3-CE9A-4126-AAD3-FAFAA2F2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EE3B-8515-4321-92F2-139D8637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E6C5-4DD4-48E9-8AD7-A7FB9A03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4026-5572-4187-8115-D404BD05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2B4E8-D4B1-4D37-A30A-4F737281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8874-CA29-4DF7-A009-30912A2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9072-DD3F-478D-BB6A-2A34092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10F-BACC-4159-B34F-51B5DF6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6E3F-0604-448E-8E14-FF7799F4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59927-27DE-4D7A-A2C1-6E41EF6A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C33D0-12BF-4DDE-9568-A4918D5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802C-A19C-41A4-9A9D-812A736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C8EC-C4C0-4CA8-8B37-635FF8A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F0B9F-53C0-4370-A7FB-41434348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A5164-3493-488F-B9B6-CAA20620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EBE9C-66F3-460B-ACC6-38DFA6F5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29C51-C3E2-4DB4-A96D-2AA08BAE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6B92D-65ED-40B5-8BCA-E489EF3C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AD5-98E5-4DB5-AF45-29B6DB205BAC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A0AB-C734-4E94-B3D4-4680F9CDDB90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14D-FC6A-4E0B-A028-5D8094BAC451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31F7-51E3-4066-8C0A-02FA386ABFF2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86C1-7B76-4C1F-B8C1-4F32CEE524C4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4366-A6C9-4701-BC8F-A6063307D7F3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3B31-6ABF-4F63-8DAC-34DEAC3AC2AC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44F9-6647-42CA-9D12-26D0BA8D971E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08D-B3E8-4B4C-99A9-E4FA85A7B203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11CE-34AD-468F-B2FA-55A1F9E8EC36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DBC-1527-4D66-AE23-EC314DDE2773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775-5211-43AD-AA37-305C3270F3E8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6C19-D895-429E-945D-350223B7A457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52D1-B410-4DC5-A1AC-90D2C5BFC4D9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200-5B77-4AC6-95B8-394784A750A5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D079-209C-426B-A185-946A3ACA1EDE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9B86-A83F-465A-B434-919387AA2F43}" type="slidenum">
              <a:rPr b="0" lang="en-A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2:15:55Z</dcterms:created>
  <dc:creator>ukyawnaing</dc:creator>
  <dc:description/>
  <dc:language>en-US</dc:language>
  <cp:lastModifiedBy>ukyawnaing</cp:lastModifiedBy>
  <dcterms:modified xsi:type="dcterms:W3CDTF">2015-04-16T02:16:52Z</dcterms:modified>
  <cp:revision>1</cp:revision>
  <dc:subject/>
  <dc:title>PowerPoint Presentation</dc:title>
</cp:coreProperties>
</file>